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D5B-5492-42BA-915B-FC808913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CF1-D236-4465-8BD4-7F378A7A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C23-8B4B-451A-B290-2FC65B99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43F-3710-4D71-A9C5-024E4EEC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479E-7615-4FF5-8C6C-6250D3AF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9D1B-882A-41EC-B2CE-1B0BDFF4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3163-E827-48BB-B7B3-B18598D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14BA-7A6C-4323-A111-113C16AD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3B94-F2F1-4543-964C-2CBB01CC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03F-0F6D-491A-8BCC-507CB77E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6E64-8564-4D33-81ED-06809A7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F8D-0854-49BB-B520-10F22F20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3C91-E579-451C-8C1C-9603FA0F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C938-A308-4FC3-86E6-9CA36B76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FD5-B413-4E34-96DB-CA6B69CA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5DA8-DA17-4F70-A119-1BC9EB55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3668-AD10-4797-8A5A-EA2C722E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798-B9B3-46D6-A031-78FFE4B7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461-951A-4DC3-AC10-EF457A98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3D2-8631-43E1-998E-E0245D0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8B6-4388-410C-941F-57E68C55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2A7-9EAC-4C28-8A37-95FB8073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069-F9EF-44CC-B356-A76A4E61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2FD-6143-4AA0-8BD2-36EE4436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F3325-2E07-41A8-BC7E-137A43C80DBF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0694E-0A51-4748-A8E7-39A7EA19C84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F4AF0-3FB2-4F32-A7BD-B6CB58D00632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E7C0D-F957-4DD2-A882-2D5C1723CC6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le 1" descr=""/>
          <p:cNvPicPr/>
          <p:nvPr/>
        </p:nvPicPr>
        <p:blipFill>
          <a:blip r:embed="rId2"/>
          <a:stretch/>
        </p:blipFill>
        <p:spPr>
          <a:xfrm>
            <a:off x="835200" y="-6480"/>
            <a:ext cx="7321320" cy="27561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2" name="Subtitle 2" descr=""/>
          <p:cNvPicPr/>
          <p:nvPr/>
        </p:nvPicPr>
        <p:blipFill>
          <a:blip r:embed="rId3"/>
          <a:stretch/>
        </p:blipFill>
        <p:spPr>
          <a:xfrm>
            <a:off x="822240" y="2979720"/>
            <a:ext cx="7499520" cy="2971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26"/>
          <p:cNvSpPr/>
          <p:nvPr/>
        </p:nvSpPr>
        <p:spPr>
          <a:xfrm>
            <a:off x="1266840" y="685800"/>
            <a:ext cx="574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17680" y="201600"/>
            <a:ext cx="408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reat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981080"/>
            <a:ext cx="579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for breathing by looking if the chest is rising and put your hand close to their nose or mouth to see if you feel there breath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242560" cy="14698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7" name="Content Placeholder 2" descr=""/>
          <p:cNvPicPr/>
          <p:nvPr/>
        </p:nvPicPr>
        <p:blipFill>
          <a:blip r:embed="rId3"/>
          <a:stretch/>
        </p:blipFill>
        <p:spPr>
          <a:xfrm>
            <a:off x="822240" y="2049480"/>
            <a:ext cx="7499520" cy="4043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18920" y="31680"/>
            <a:ext cx="353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Circ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94120" y="137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52:57Z</dcterms:created>
  <dc:creator>kms kms</dc:creator>
  <dc:description/>
  <dc:language>en-US</dc:language>
  <cp:lastModifiedBy>Kraybill Campus LMS</cp:lastModifiedBy>
  <dcterms:modified xsi:type="dcterms:W3CDTF">2011-05-25T18:27:51Z</dcterms:modified>
  <cp:revision>11</cp:revision>
  <dc:subject/>
  <dc:title>Slide 1</dc:title>
</cp:coreProperties>
</file>